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959-CDB2-4D42-A034-1497D6F4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18F-BBE6-48C6-B16E-742F5C11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445-8DC1-49FE-A706-50396FB4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0F3-D08B-4C95-B391-4FBDF01F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EC8-62D3-4887-A795-B75ED84C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E8E-42F0-4BFF-919F-C6820089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345-E37A-4949-BBF0-B3EB29EB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AEA-A178-4799-9754-DDD57C37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008-B12D-4E67-913A-98837D0B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B47-47CB-4FDB-92D1-B6B4915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9DA-9230-4D15-B049-832A8B12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F12-FB9C-448B-A647-D0A7C2C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468B-0A7A-4360-9E59-C568DD44C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icksteves.com/tms/article.cfm?id=287&amp;extras=false" TargetMode="External"/><Relationship Id="rId2" Type="http://schemas.openxmlformats.org/officeDocument/2006/relationships/hyperlink" Target="http://www.german-way.com/ludwig.html" TargetMode="External"/><Relationship Id="rId3" Type="http://schemas.openxmlformats.org/officeDocument/2006/relationships/hyperlink" Target="http://www.german-way.com/neuschw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eautiful%20views%20from%20Neuschwanstein%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The Castles of Mad Ludwi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nthea Ro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English articl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icksteves.com/tms/article.cfm?id=287&amp;extras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English articl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rman-way.com/ludwi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English artic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german-way.com/neusch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445520" cy="4986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1627200" y="62690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umblog.humboldt-institut.org/archives/32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057400" y="441360"/>
            <a:ext cx="4419720" cy="368280"/>
          </a:xfrm>
          <a:prstGeom prst="rect">
            <a:avLst/>
          </a:prstGeom>
          <a:solidFill>
            <a:srgbClr val="d1d1f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Gothic Std Black"/>
              </a:rPr>
              <a:t>German Students Visit Neuschwa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Cas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rich history of these three castles of Mad Ludwig II help define Germany’s cultural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Ludwig’s castles are classic, romantic, and glor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is castles are located in Bav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y are very popular with tourists from around Germany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castles have towering turrets and are located in striking settings of the Bavarian country-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Neuschwanstein Cas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676520"/>
            <a:ext cx="39625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Fairy-tale turrets decorate Neuschwanstein Castle, King Ludwig's alpine retr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is was the inspiration for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90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o is Mad Ludwig I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62120" y="1905120"/>
            <a:ext cx="76960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was born 1845 just outside of Mun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spent much of his youth in a castle known as Hohenschwangau (“high region of the swa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t age 19 he ascended the th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had a love for the Bavarian Alps where he chose to build his cas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was thought to be shy and odd; his death is a mystery yet to be 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ad Ludwi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1865 coronation of Mad Ludwi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udwig II"/>
          <p:cNvPicPr/>
          <p:nvPr/>
        </p:nvPicPr>
        <p:blipFill>
          <a:blip r:embed="rId1"/>
          <a:stretch/>
        </p:blipFill>
        <p:spPr>
          <a:xfrm>
            <a:off x="5257800" y="1447920"/>
            <a:ext cx="325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How does this affect German cultural ident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amazing castles shows just some of the history of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ermans take pride in the fantastic work done by their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se are some of the most famous castl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lp define who Germans are; proud of their rich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urrently, they are carefully renovating and fixing Neuschwanstein which shows their pride in history and love of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 as seen with Neuschwa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560" y="5638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Traditional German dancing outside Newschwa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[Germany+with+Lizzie+4-2009+357.jpg]"/>
          <p:cNvPicPr/>
          <p:nvPr/>
        </p:nvPicPr>
        <p:blipFill>
          <a:blip r:embed="rId1"/>
          <a:stretch/>
        </p:blipFill>
        <p:spPr>
          <a:xfrm>
            <a:off x="1828800" y="1600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38080" y="1600200"/>
            <a:ext cx="762012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Who built the some of the most famous castles in the world; such as Neuschwanst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ing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Mad Ludwig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en Elizabeth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2. What is one reason this affects German cultural ident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They take pride and love the history of their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914400" y="487692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b. They get free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.  They can have car 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47560"/>
            <a:ext cx="2286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4782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2:13:11Z</dcterms:created>
  <dc:creator>SCSadmin</dc:creator>
  <dc:description/>
  <dc:language>en-US</dc:language>
  <cp:lastModifiedBy>SCSadmin</cp:lastModifiedBy>
  <dcterms:modified xsi:type="dcterms:W3CDTF">2012-10-30T11:55:40Z</dcterms:modified>
  <cp:revision>12</cp:revision>
  <dc:subject/>
  <dc:title>The Castles of Mad Ludwig II help define German identity</dc:title>
</cp:coreProperties>
</file>